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000-83A3-4375-AAB1-3C5F5C47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53F-38EA-4BF6-AE19-FC38B26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76D-3E01-40A9-A811-75AD8B83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038-288B-45DA-A58D-AA470264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64C-20CB-42D3-A5BF-4A65D22C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ADD-89D2-45CA-AE6F-73EB9A34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F442-9D88-48E1-813B-5ECADF4D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D84-0926-45E2-9839-2D25113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520-7DF2-4F97-BA4E-8A56943B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603-D73A-49D4-A703-1F33163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C37-8251-45D7-843D-36D9632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249-F2B2-405B-AFF5-C420286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DDE2-27D4-4FBD-AB39-8FB1147DB7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based developmental reading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und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dven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ste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xplo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F.A.M.E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t’s what it is all about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Componen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and Post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Oral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 is on Vocabulary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ion—Ant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M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tion J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tar Pi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4691160" cy="525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 Development…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ve Oral Reading: Students reading a novel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word Puzz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og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ze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68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68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68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22:03:44Z</dcterms:created>
  <dc:creator>anderak</dc:creator>
  <dc:description/>
  <dc:language>en-US</dc:language>
  <cp:lastModifiedBy>CSD</cp:lastModifiedBy>
  <dcterms:modified xsi:type="dcterms:W3CDTF">2009-10-02T00:54:39Z</dcterms:modified>
  <cp:revision>7</cp:revision>
  <dc:subject/>
  <dc:title>FAME</dc:title>
</cp:coreProperties>
</file>